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BE3-32F0-44E1-BE80-A944A445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7BD-94B3-4D0C-B536-130DF32C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55A-57E3-4552-95C8-14BD815D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1B9-CA4E-4C0F-8214-CC1CD486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BBB-425D-43BD-A638-757CA2CA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D727-1726-444F-9133-A830F8EF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EEA-A39F-41F6-A022-37402E0E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93B-4005-45D5-8139-C00A0F2E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127-89C0-47F2-B18B-758C8675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E4E-EE63-4FF1-B100-577B2F04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DF6-535E-4030-90BE-49EC3180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8B67-25E4-49FA-8E70-A1C80975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10B75-1051-4E5C-B6D0-F11C9B54B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3760" y="666576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28800" y="2727360"/>
            <a:ext cx="387504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 Web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sh Good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AP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599840"/>
            <a:ext cx="9070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t (Web serv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ine (Web serv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bernate (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atis (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::DBI (Pe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ware (Pe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RT (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web services are incompa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data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veryone uses Chado (nor will th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APIs are language or system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I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d light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ful (GET, POST, etc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data model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high level cross database informatio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ed URLs for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lists (XML, JSON, 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records in Generic Gene Page (GGP)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93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27240"/>
            <a:ext cx="9070920" cy="58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full text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fulltext/RNA%20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ontology/mitotic%20spindle%20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tho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orthologs/WBGene000065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record retrieval (GGP 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fetch/FBgn0026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is make s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interes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22:04:49Z</dcterms:created>
  <dc:creator>Josh Goodman</dc:creator>
  <dc:description/>
  <dc:language>en-US</dc:language>
  <cp:lastModifiedBy/>
  <dcterms:modified xsi:type="dcterms:W3CDTF">2009-01-15T18:11:25Z</dcterms:modified>
  <cp:revision>14</cp:revision>
  <dc:subject/>
  <dc:title/>
</cp:coreProperties>
</file>